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applause.wav" ContentType="audio/x-wav"/>
  <Override PartName="/ppt/media/image16.png" ContentType="image/png"/>
  <Override PartName="/ppt/media/drumroll.wav" ContentType="audio/x-wav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BC77-5FB4-4E77-8DD8-20DF5909F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563-3E03-4F13-B7EC-4D87CE0E2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7BC-527A-4C51-B6CA-E44CC295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607-9BE0-4712-AFFB-E296B10D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C0D-8113-43BF-9BE6-85F1E522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A04-1B92-4A23-98AD-9632869E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7276-6987-46C2-90DA-38F1C6C7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EE2C-0796-4CFA-ACD9-30A85394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79F9-7A43-4367-A9D4-CAA49DBE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C680-34F0-486D-8572-4A0687CD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C348-A828-41BF-9159-22489E42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6993-752B-446B-9DC9-B304BCB4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C165-57C6-44ED-BCB8-08C91CF0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F00-0E1B-4959-BD01-7698EF06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01BA-4CCF-4541-803E-6F4D2ED3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8198-84D7-43D2-87E8-5DCCC9C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2E7A-96DC-4222-B3AB-2B45FF51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18F9-30CB-45DF-9EBC-87BFC5FE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350C-7AD4-41F2-9D5D-36129210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F7FD-B7E1-4823-B88E-B6F75DAC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1633-8956-4525-AE65-EDC00949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5A9D-CCFE-4498-B063-6FC1D598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8E4D-AA1F-426F-A37D-F136042D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1603-D3EE-4F0D-9AE5-8C18030E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319-DAA2-4AD9-B76B-C4757D02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8DCF0-529D-4140-86B1-5E1E3B43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48E3-7718-4D4B-8BFD-AFE72EEE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1BA6-BE8D-438A-A8C6-F273F5A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6B452-8439-4FBF-AA73-87780E78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EAE7-AA5B-4DD4-8F43-B9E5E2D5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3256-40E2-49AD-B677-7C7DE4DA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84B2-8278-44DF-9FB0-80F6CC69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0B83B-4732-4003-99F1-4C57B894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5DAC-6706-4B66-A260-90A418A6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272B0-F9D0-449A-88FB-5274A1D3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76F-9C93-4437-BDE3-A705AFC4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0F03-B831-449E-9639-F004A883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B28A7-CEEB-41E4-87A0-451A13DA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1F76-2DD0-4BFD-B736-4C103E49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053E-6161-4A26-8D34-A078BACE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BEECC-A0D6-4FA8-AF08-BB2E4CC2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CCD7C-D44A-4691-9C25-53A5EE0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0541-8449-4753-AE87-ADA52601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6587-A641-4361-BE39-8C892BBB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7E41E-8334-4C4B-AAE3-2CDFC3F3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433-BFB3-4280-96BC-23B84A1E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1DF-A368-4AA5-9014-DFB05868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6A4-5FA6-4D9C-A56B-E40F0AFB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06F-4D17-4B45-9FB4-5B6206A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1CE-73EA-4ED2-B1BE-005191E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9D0-F8DC-45F7-A9F1-9E109578767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97A3-10B0-497F-B611-479BC936F56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E47E-C604-46FF-88F1-9B441485A3E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3145-536B-4EB9-9181-AE2EBC6BC4D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RUSSIA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’</a:t>
            </a: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S  ECONOM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5000">
    <p:wheel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603360" y="1725480"/>
            <a:ext cx="7864200" cy="2700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0000">
    <p:wheel/>
    <p:sndAc>
      <p:stSnd>
        <p:snd r:embed="rId2" name="applause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’s statistic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a - 17,098,242 sq k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- 139,390,20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erage age- 38.5 years ol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ployment rate- 8.4 and grow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below poverty line- 15.8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Content Placeholder 4" descr="rs-map.gif"/>
          <p:cNvPicPr/>
          <p:nvPr/>
        </p:nvPicPr>
        <p:blipFill>
          <a:blip r:embed="rId1"/>
          <a:stretch/>
        </p:blipFill>
        <p:spPr>
          <a:xfrm>
            <a:off x="4191120" y="2438280"/>
            <a:ext cx="4647960" cy="327672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4240116"/>
          <p:cNvPicPr/>
          <p:nvPr/>
        </p:nvPicPr>
        <p:blipFill>
          <a:blip r:embed="rId1"/>
          <a:stretch/>
        </p:blipFill>
        <p:spPr>
          <a:xfrm>
            <a:off x="3962520" y="4419720"/>
            <a:ext cx="3200400" cy="19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1607potatoes"/>
          <p:cNvPicPr/>
          <p:nvPr/>
        </p:nvPicPr>
        <p:blipFill>
          <a:blip r:embed="rId3"/>
          <a:stretch/>
        </p:blipFill>
        <p:spPr>
          <a:xfrm>
            <a:off x="2590920" y="1981080"/>
            <a:ext cx="3047760" cy="2067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Foods produced in Russ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514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at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ar bee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rl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a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stockphotopro_36014208UKD_no_title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4054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anufacturing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257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. Petersburg is a shipbuilding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manufacturing centers are in western Russ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focus on heavy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factories switched to light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in St. Petersburg make light machinery, textiles, and scientific and medical equi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’s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04960" y="1904760"/>
            <a:ext cx="51116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C:\Users\cool\AppData\Local\Microsoft\Windows\Temporary Internet Files\Content.IE5\2IUTAM3Y\MP900289272[1].jpg"/>
          <p:cNvPicPr/>
          <p:nvPr/>
        </p:nvPicPr>
        <p:blipFill>
          <a:blip r:embed="rId1"/>
          <a:stretch/>
        </p:blipFill>
        <p:spPr>
          <a:xfrm>
            <a:off x="4208400" y="2209680"/>
            <a:ext cx="3411720" cy="26672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’s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production growth  rate 13.1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als are used to make advanced air crafts, ships , missi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ensive technology include radars, and advanced electronics components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cal and scientific industry include textiles, handicrafts, foodstuff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ad and rail transportation include communication equipment, tractors and construction equip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ll Russia economy has been going dow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Users\cool\AppData\Local\Microsoft\Windows\Temporary Internet Files\Content.IE5\2IUTAM3Y\MP900390146[1].jpg"/>
          <p:cNvPicPr/>
          <p:nvPr/>
        </p:nvPicPr>
        <p:blipFill>
          <a:blip r:embed="rId1"/>
          <a:stretch/>
        </p:blipFill>
        <p:spPr>
          <a:xfrm>
            <a:off x="5334120" y="1828800"/>
            <a:ext cx="2895480" cy="36576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he  Volga and Urals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828440"/>
            <a:ext cx="40384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lg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ries almost one-half of Russia’s river traffi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 provides water for irrigation and for hydroelectric pow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home of Russia’s most productive farmlan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8284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r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ers mine bauxite for aluminum, copper, gold, lead and 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energy resources such as coal, oil, and 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cow  is Russia’s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3" descr="C:\Users\cool\AppData\Local\Microsoft\Windows\Temporary Internet Files\Content.IE5\04V09QGG\MC900101208[1].wmf"/>
          <p:cNvPicPr/>
          <p:nvPr/>
        </p:nvPicPr>
        <p:blipFill>
          <a:blip r:embed="rId1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's port c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ssia has 5 important ports c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liningrad, and St. Petersburg. Murmansk, Vladivostok, and Astrakh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ter is frozen are the ports so transportation is har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liningrad has eliminated all taxes on shipping goo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. Petersburg makes light machinery, textiles, scientific, and medical equip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the other port cities trade bring goods to Russ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12" descr="news-StPetersburgAnnounced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Users\cool\AppData\Local\Microsoft\Windows\Temporary Internet Files\Content.IE5\T29BWV2O\MM900283225[1].gif"/>
          <p:cNvPicPr/>
          <p:nvPr/>
        </p:nvPicPr>
        <p:blipFill>
          <a:blip r:embed="rId2"/>
          <a:stretch/>
        </p:blipFill>
        <p:spPr>
          <a:xfrm>
            <a:off x="2971800" y="548640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cool</cp:lastModifiedBy>
  <dcterms:modified xsi:type="dcterms:W3CDTF">2010-12-21T02:00:01Z</dcterms:modified>
  <cp:revision>46</cp:revision>
  <dc:subject/>
  <dc:title>Economy</dc:title>
</cp:coreProperties>
</file>